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61A-20DE-4E22-BAA0-BD4AC78D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7EA-E00D-4546-B8DA-3749EBC0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601-06D3-4ECB-A9FC-973AFB2B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FD0-6963-439E-B860-27073964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5A6-5F10-4DE0-9F46-7C175D8D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552-3774-47A7-B1EB-3E70A4F6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6A2-158A-4B55-8911-ECB536D0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907-297F-4794-9CAD-CD7B6239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30D-C09A-434B-8766-4B1DABDC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867-06A3-471D-85C7-5231CEE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651-15B2-492E-873C-A1CF61A2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55C-5F27-4167-9E87-2A09CCA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BBF6-18C0-4AC0-84F6-11621E546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7cylfQtkDg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F_BA8e14Bw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lHtzU133NI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xtutor.ca/" TargetMode="External"/><Relationship Id="rId2" Type="http://schemas.openxmlformats.org/officeDocument/2006/relationships/hyperlink" Target="http://www.lextutor.ca/" TargetMode="External"/><Relationship Id="rId3" Type="http://schemas.openxmlformats.org/officeDocument/2006/relationships/hyperlink" Target="http://www.lextutor.ca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914400"/>
            <a:ext cx="6400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The importance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Storie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Native Americ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N01508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324320"/>
            <a:ext cx="34513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1133640"/>
            <a:ext cx="3962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have be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ecu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any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 suck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s to “Westerniz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th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llowed to          speak their                 native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152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ories a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rlisle-indian-school-1885-a" descr=""/>
          <p:cNvPicPr/>
          <p:nvPr/>
        </p:nvPicPr>
        <p:blipFill>
          <a:blip r:embed="rId1"/>
          <a:stretch/>
        </p:blipFill>
        <p:spPr>
          <a:xfrm>
            <a:off x="2819520" y="3117960"/>
            <a:ext cx="6126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04920" y="91440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k = The Peop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d native peoples together as 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y telling becomes very important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s maint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ide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klore serve as an important source of knowledge and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522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ses of Folk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071960"/>
            <a:ext cx="3048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 (dru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N01507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881520"/>
            <a:ext cx="3310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113364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expres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al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le behavior (Movies about da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Taboos (Boy who cried wo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ses of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04920" y="285264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ies can express a group ide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ies are how a people see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ies expr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ulture sees itself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als the truth to 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N01642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519440"/>
            <a:ext cx="268776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1133640"/>
            <a:ext cx="8686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some of modern America’s her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/What do we va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our stories say about America as a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152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merican 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02602_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45260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PE03446_" descr=""/>
          <p:cNvPicPr/>
          <p:nvPr/>
        </p:nvPicPr>
        <p:blipFill>
          <a:blip r:embed="rId2"/>
          <a:stretch/>
        </p:blipFill>
        <p:spPr>
          <a:xfrm>
            <a:off x="5846760" y="2286000"/>
            <a:ext cx="1925640" cy="1846440"/>
          </a:xfrm>
          <a:prstGeom prst="rect">
            <a:avLst/>
          </a:prstGeom>
          <a:ln w="0">
            <a:noFill/>
          </a:ln>
        </p:spPr>
      </p:pic>
      <p:pic>
        <p:nvPicPr>
          <p:cNvPr id="58" name="PE01852_" descr=""/>
          <p:cNvPicPr/>
          <p:nvPr/>
        </p:nvPicPr>
        <p:blipFill>
          <a:blip r:embed="rId3"/>
          <a:stretch/>
        </p:blipFill>
        <p:spPr>
          <a:xfrm>
            <a:off x="762120" y="2438280"/>
            <a:ext cx="18000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76320"/>
            <a:ext cx="906768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ordanc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xtutor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a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“Concordan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“Englis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one of the vocabulary words &amp; use a phrase you find to start writing your own leg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rough draft of your legend and have it ready for classmates to proof read tomorrow. 1 p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im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23:44:19Z</dcterms:created>
  <dc:creator> </dc:creator>
  <dc:description/>
  <dc:language>en-US</dc:language>
  <cp:lastModifiedBy> </cp:lastModifiedBy>
  <dcterms:modified xsi:type="dcterms:W3CDTF">2010-06-11T00:23:51Z</dcterms:modified>
  <cp:revision>4</cp:revision>
  <dc:subject/>
  <dc:title>PowerPoint Presentation</dc:title>
</cp:coreProperties>
</file>